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AB6-981C-4CDD-93F7-4A2112F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FE3-ED25-4ADD-A3AB-3C1F32F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019-9E2D-411C-B1A1-F7DA7D52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E6F-B478-4E73-A310-708BB12F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284A-C607-42C5-B277-CA0D0132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D7DD-E1EC-46DE-B7F7-7E8326E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0B32-CA0C-44C9-842E-9341F2B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64F-0E74-4973-9AE2-C424ECB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CB2-6E49-4B8E-A829-256915D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7314-880E-485B-BCDD-C2B1CDC3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9AB-4F06-455C-B31A-7A3E12D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3C9-E8AC-4E30-A377-65E320F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AC76-6D8D-4C4F-8423-2EC3652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3B80-4600-427B-A034-8E291EE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A863-5943-4E62-B15C-44A96CF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A3F5-1935-4BF3-92E0-68C00CE7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D127-044D-4DBD-AC87-B721ABC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3DE-9B8A-46E3-932D-741BB25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70E-4178-42A4-96ED-D11F56B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37D-3AE8-49DD-983F-4B2F44A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642-3B3C-4257-AA64-D9F3A7E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71F-3638-4D3C-BF4A-D5D16DC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3F6-2A04-46BD-AD1B-036DE8F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091-907A-46BE-A386-AC081CE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61AA-2A61-4021-AA56-53DF60A6DE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0ADC-E136-4F79-9FCE-0E2655AA7B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59280" y="476280"/>
            <a:ext cx="3166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адими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708360" y="3933720"/>
            <a:ext cx="1859040" cy="207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199960" cy="2448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11280" y="443700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нумент в честь 850-летия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9242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Герб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4165" t="0" r="12501" b="16131"/>
          <a:stretch/>
        </p:blipFill>
        <p:spPr>
          <a:xfrm>
            <a:off x="6516720" y="1557360"/>
            <a:ext cx="1994040" cy="259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6012000" y="4437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овременный 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26920" y="620640"/>
            <a:ext cx="2975040" cy="3313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5090" t="0" r="4044" b="4764"/>
          <a:stretch/>
        </p:blipFill>
        <p:spPr>
          <a:xfrm>
            <a:off x="5076720" y="2924280"/>
            <a:ext cx="3305160" cy="2922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11280" y="422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олотые 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765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олотые ворота и Троицкая 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5960" y="476280"/>
            <a:ext cx="3559320" cy="39607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5557" t="12242" r="5527" b="20788"/>
          <a:stretch/>
        </p:blipFill>
        <p:spPr>
          <a:xfrm>
            <a:off x="1258920" y="2276640"/>
            <a:ext cx="2168640" cy="367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11280" y="549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Успенский мон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12777"/>
          <a:stretch/>
        </p:blipFill>
        <p:spPr>
          <a:xfrm>
            <a:off x="684360" y="549360"/>
            <a:ext cx="2774880" cy="3456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4913" t="63823" r="6682" b="3237"/>
          <a:stretch/>
        </p:blipFill>
        <p:spPr>
          <a:xfrm>
            <a:off x="5148360" y="3213000"/>
            <a:ext cx="3184560" cy="283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84360" y="4292640"/>
            <a:ext cx="29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митриев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76500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ены Дмитриевского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49:46Z</dcterms:created>
  <dc:creator>Таня</dc:creator>
  <dc:description/>
  <dc:language>en-US</dc:language>
  <cp:lastModifiedBy>Таня</cp:lastModifiedBy>
  <dcterms:modified xsi:type="dcterms:W3CDTF">2007-03-05T16:17:36Z</dcterms:modified>
  <cp:revision>2</cp:revision>
  <dc:subject/>
  <dc:title>Слайд 1</dc:title>
</cp:coreProperties>
</file>