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D10-9AB2-46E1-97FE-AFC4C944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187-0287-4D8E-9CBE-911C19ED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E26-2EE8-4ABA-A438-057C826D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457-12C3-425D-A028-6EF72BD0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D6B7-C359-4C8C-B7DD-B028BCEB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2EC-4C1F-4CC8-BFE2-9EE9FA2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0588-D8F7-4CCB-8C40-9DD6A92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EDB3-9F4F-4CFA-B918-BBF27110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8D42-D23A-4302-837A-935F028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1CA-E393-4D2A-ADAC-233B060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DF08-334F-4B9D-A63F-088E114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29E-D733-483A-97FF-B3F2DFE5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BE3-A00E-4939-A020-C3030300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D6C8-57E0-4F97-9757-69592AB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EAD7-CF9C-47ED-9767-4085E35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06D-4134-4353-93B8-EB20B645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B48-5380-476B-849B-5A199B12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DEB-734E-48C3-9432-47C78A59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C6E-7668-49F2-ADA1-BE5C85F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0CF-6290-4430-91E5-2CE40F60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89C-84BF-46AD-85C1-2CD27629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717-A137-457C-BD0A-1EC00E9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D54-3ECD-4A7F-8EEA-4F80066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8DE-59F5-4D3D-B955-5BA60F7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B821-F817-4353-9533-F66622C141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D3A2-0472-49A7-BA87-39A53F2AF7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268360" y="404640"/>
            <a:ext cx="453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ё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00160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316692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3640" y="2637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ерб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024000" cy="2141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ид на Вол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076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еревянный Пл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4259" t="0" r="32918" b="12230"/>
          <a:stretch/>
        </p:blipFill>
        <p:spPr>
          <a:xfrm>
            <a:off x="468360" y="476280"/>
            <a:ext cx="2438280" cy="2881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537080" cy="3208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5280" y="37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саак Левита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508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сский худож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765000"/>
            <a:ext cx="45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ом-музей И.И.Леви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9640" y="549360"/>
            <a:ext cx="2778120" cy="30956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61113" t="8576" r="5555" b="10004"/>
          <a:stretch/>
        </p:blipFill>
        <p:spPr>
          <a:xfrm>
            <a:off x="4932360" y="2060640"/>
            <a:ext cx="3290760" cy="37432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68360" y="3933720"/>
            <a:ext cx="359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едор Ив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аляп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157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кий русский пе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47628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овар Ф.И.Шаляп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320920" cy="3311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2373480" cy="3313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26120" y="620640"/>
            <a:ext cx="2390760" cy="33847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24000" y="4076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оскресенская 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105264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амятник московскому князю Васили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429264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Преображенская церков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06:47:50Z</dcterms:created>
  <dc:creator>Таня</dc:creator>
  <dc:description/>
  <dc:language>en-US</dc:language>
  <cp:lastModifiedBy>Таня</cp:lastModifiedBy>
  <dcterms:modified xsi:type="dcterms:W3CDTF">2007-03-04T07:32:23Z</dcterms:modified>
  <cp:revision>2</cp:revision>
  <dc:subject/>
  <dc:title>Слайд 1</dc:title>
</cp:coreProperties>
</file>