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1207-2967-43C6-A939-D8F407DBD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DA79-43AD-4F40-A9BF-0325C690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8954-E7BD-4FD2-A5D7-F8A607D46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BE7F-0486-4170-97B0-8D152E2A6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C29F-6761-4510-8D9D-D38DFE85D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F0B60-EAAC-434A-BC45-F75138AB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DEFD-31B5-428E-8B87-0BFB1FA9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472A-69EC-4365-8739-6589E568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1ABB-AA88-4750-9A72-E60A9F90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47DA-1825-41B7-AFAC-7BA1C883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5624-D6E0-4197-AEDB-B9DCA975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97AC-8CD5-4C5D-91D1-0EE0A6EB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A3F9-EDEA-4E65-BFD9-BA3E5268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2E24-F342-4092-94F7-B98F9643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C47D-64BA-406A-A5A8-415F0878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1159F-3865-47B5-B66B-F60ADACA8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37F8-BD20-4245-8CD2-FCD70F8CD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FEE7-CE77-4FC1-BE35-5C62B7BA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7010-2B67-425B-892D-D8293739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6559-3FE7-4689-9AC2-6559EA10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49E1-674A-4C34-8B9C-81D1A7C6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CA8A-1D44-4EE4-ABAD-15871628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F663-B4AC-4C79-98D6-A3702A4E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1C62-5E84-4A24-A4BE-B0FF5C4A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7C92-AC69-4FC2-A7BD-5CFD4498FF2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4C62-6275-4BE3-A9E0-46ED2555208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700360" y="836640"/>
            <a:ext cx="4032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стром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635280" y="3860640"/>
            <a:ext cx="1824120" cy="2032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492360" y="2637000"/>
            <a:ext cx="20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Герб го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>
            <a:lum bright="-6000"/>
          </a:blip>
          <a:srcRect l="52424" t="1878" r="1140" b="10136"/>
          <a:stretch/>
        </p:blipFill>
        <p:spPr>
          <a:xfrm>
            <a:off x="6443640" y="2060640"/>
            <a:ext cx="2151000" cy="259236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39640" y="2060640"/>
            <a:ext cx="2327400" cy="259236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6300720" y="494172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Вид го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494172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Вид го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>
            <a:lum bright="-18000"/>
          </a:blip>
          <a:srcRect l="9062" t="12678" r="12723" b="6948"/>
          <a:stretch/>
        </p:blipFill>
        <p:spPr>
          <a:xfrm>
            <a:off x="826920" y="1052640"/>
            <a:ext cx="7777440" cy="504828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539640" y="33336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Карта го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39640" y="2997360"/>
            <a:ext cx="2714760" cy="30240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pic>
        <p:nvPicPr>
          <p:cNvPr id="95" name="" descr=""/>
          <p:cNvPicPr/>
          <p:nvPr/>
        </p:nvPicPr>
        <p:blipFill>
          <a:blip r:embed="rId2"/>
          <a:srcRect l="13189" t="50637" r="11107" b="6110"/>
          <a:stretch/>
        </p:blipFill>
        <p:spPr>
          <a:xfrm>
            <a:off x="4859280" y="404640"/>
            <a:ext cx="3659400" cy="32022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3">
            <a:lum bright="-12000"/>
          </a:blip>
          <a:srcRect l="9062" t="12678" r="12723" b="6948"/>
          <a:stretch/>
        </p:blipFill>
        <p:spPr>
          <a:xfrm>
            <a:off x="539640" y="404640"/>
            <a:ext cx="3240360" cy="235440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2124000" y="1484280"/>
            <a:ext cx="432000" cy="432000"/>
          </a:xfrm>
          <a:prstGeom prst="ellipse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24360" y="422100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Торговые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ря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>
            <a:lum bright="-6000"/>
          </a:blip>
          <a:srcRect l="11854" t="12266" r="2782" b="30866"/>
          <a:stretch/>
        </p:blipFill>
        <p:spPr>
          <a:xfrm>
            <a:off x="611280" y="549360"/>
            <a:ext cx="2351160" cy="25192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2">
            <a:lum bright="-6000"/>
          </a:blip>
          <a:srcRect l="15319" t="7401" r="0" b="35098"/>
          <a:stretch/>
        </p:blipFill>
        <p:spPr>
          <a:xfrm>
            <a:off x="2916360" y="3213000"/>
            <a:ext cx="2687400" cy="28083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3">
            <a:lum bright="-6000"/>
          </a:blip>
          <a:srcRect l="5769" t="5277" r="17307" b="4590"/>
          <a:stretch/>
        </p:blipFill>
        <p:spPr>
          <a:xfrm>
            <a:off x="6288120" y="333360"/>
            <a:ext cx="2363760" cy="395928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3203640" y="765000"/>
            <a:ext cx="25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Ипатьевский монасты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400536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Троицкий со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2000" y="436572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Золоченый иконостас Троицкого соб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2781360" cy="309564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2">
            <a:lum bright="-12000"/>
          </a:blip>
          <a:srcRect l="56424" t="3855" r="1322" b="57603"/>
          <a:stretch/>
        </p:blipFill>
        <p:spPr>
          <a:xfrm>
            <a:off x="3708360" y="2924280"/>
            <a:ext cx="4686480" cy="312408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3564000" y="90792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ожарная калан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14:16:38Z</dcterms:created>
  <dc:creator>Таня</dc:creator>
  <dc:description/>
  <dc:language>en-US</dc:language>
  <cp:lastModifiedBy>Таня</cp:lastModifiedBy>
  <dcterms:modified xsi:type="dcterms:W3CDTF">2007-03-11T14:55:40Z</dcterms:modified>
  <cp:revision>2</cp:revision>
  <dc:subject/>
  <dc:title>Слайд 1</dc:title>
</cp:coreProperties>
</file>