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5.jpeg" ContentType="image/jpeg"/>
  <Override PartName="/ppt/media/image1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3.wmf" ContentType="image/x-wmf"/>
  <Override PartName="/ppt/media/image29.jpeg" ContentType="image/jpeg"/>
  <Override PartName="/ppt/media/image2.gif" ContentType="image/gif"/>
  <Override PartName="/ppt/media/image8.png" ContentType="image/png"/>
  <Override PartName="/ppt/media/image12.wmf" ContentType="image/x-wmf"/>
  <Override PartName="/ppt/media/image4.wmf" ContentType="image/x-wmf"/>
  <Override PartName="/ppt/media/image10.png" ContentType="image/png"/>
  <Override PartName="/ppt/media/applause.wav" ContentType="audio/x-wav"/>
  <Override PartName="/ppt/media/image13.wmf" ContentType="image/x-wmf"/>
  <Override PartName="/ppt/media/image27.jpeg" ContentType="image/jpeg"/>
  <Override PartName="/ppt/media/image9.png" ContentType="image/png"/>
  <Override PartName="/ppt/media/image30.jpeg" ContentType="image/jpeg"/>
  <Override PartName="/ppt/media/image11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9.wmf" ContentType="image/x-wmf"/>
  <Override PartName="/ppt/media/image6.jpeg" ContentType="image/jpeg"/>
  <Override PartName="/ppt/media/image21.wmf" ContentType="image/x-wmf"/>
  <Override PartName="/ppt/media/image22.gif" ContentType="image/gif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E864-81A0-49B5-A05F-179F77CCF7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A09-9048-474E-A5D2-6C039253CF05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CD5-8999-4A8A-8CFB-3BA0842B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02A-3912-4EE3-805C-229D2AE2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D9B-20AC-48D2-8D65-918534CA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5CC-2349-4414-A28F-CEF115A7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D55-88A5-48E1-A97B-D5841ECC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BA5E-70B8-4E41-BEF9-4F028C8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2F8C-CAD0-4BCE-814E-6DCF7B72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9C1A-2B3A-412C-BA63-F81136B9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80DA-F6F5-4CCB-9F39-0B672D21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E819-D6A0-476F-BD9D-EDF5160C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1B8-D401-46E9-96BD-D4604D4D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D3A-EF79-4613-89CE-2469F33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8E60-F40D-406B-BAD9-8E57CBE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6A6-818F-4F5E-8D85-6A1C572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AB51-B190-4BC3-89D2-E9FFCE6B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AAD-CECA-43C7-8A9A-F23CD5FA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11E9-EF39-4663-8CF3-0B574646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8BA-5225-4B4F-8531-73928E8B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930-415F-4B3E-91C9-6E14D9E4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A49-875A-4A24-A531-848D51F1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CC1-C3F2-404B-A76A-F5756503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16E-06F0-463E-8B91-03E930D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D77-75F0-46FA-BE6A-07597FC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DCB-B96B-43B3-8DA6-1264AB7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A0B8-EB6E-4042-B4FC-606EA39026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973C-2B7F-4061-9BE8-163D023C9C7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slide" Target="slide16.xml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659772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0000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езентация подготовлен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ахарчук Н.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24000" y="1341360"/>
            <a:ext cx="85280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600"/>
            </a:b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j0232128"/>
          <p:cNvPicPr/>
          <p:nvPr/>
        </p:nvPicPr>
        <p:blipFill>
          <a:blip r:embed="rId1"/>
          <a:stretch/>
        </p:blipFill>
        <p:spPr>
          <a:xfrm>
            <a:off x="5508720" y="3860640"/>
            <a:ext cx="2950920" cy="271476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539640" y="1341360"/>
            <a:ext cx="813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У Т Е Ш Е С Т В И Е   П О   Н А У К А 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ссади пассажир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434960" y="4673520"/>
            <a:ext cx="7238880" cy="1779120"/>
            <a:chOff x="1434960" y="4673520"/>
            <a:chExt cx="7238880" cy="1779120"/>
          </a:xfrm>
        </p:grpSpPr>
        <p:sp>
          <p:nvSpPr>
            <p:cNvPr id="293" name="Rectangle 4"/>
            <p:cNvSpPr/>
            <p:nvPr/>
          </p:nvSpPr>
          <p:spPr>
            <a:xfrm>
              <a:off x="2581560" y="4673520"/>
              <a:ext cx="974160" cy="73044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1434960" y="4766040"/>
              <a:ext cx="7238880" cy="1686600"/>
              <a:chOff x="1434960" y="4766040"/>
              <a:chExt cx="7238880" cy="1686600"/>
            </a:xfrm>
          </p:grpSpPr>
          <p:sp>
            <p:nvSpPr>
              <p:cNvPr id="295" name="Rectangle 6"/>
              <p:cNvSpPr/>
              <p:nvPr/>
            </p:nvSpPr>
            <p:spPr>
              <a:xfrm>
                <a:off x="1520640" y="5403600"/>
                <a:ext cx="2035080" cy="67788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" name="Rectangle 7"/>
              <p:cNvSpPr/>
              <p:nvPr/>
            </p:nvSpPr>
            <p:spPr>
              <a:xfrm>
                <a:off x="1807560" y="4991760"/>
                <a:ext cx="186480" cy="411840"/>
              </a:xfrm>
              <a:prstGeom prst="rect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" name="Oval 8"/>
              <p:cNvSpPr/>
              <p:nvPr/>
            </p:nvSpPr>
            <p:spPr>
              <a:xfrm>
                <a:off x="1721520" y="5934960"/>
                <a:ext cx="559440" cy="51768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" name="Oval 9"/>
              <p:cNvSpPr/>
              <p:nvPr/>
            </p:nvSpPr>
            <p:spPr>
              <a:xfrm>
                <a:off x="2882520" y="5934960"/>
                <a:ext cx="559440" cy="51768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2767320" y="4806000"/>
                <a:ext cx="702720" cy="47736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" name="Rectangle 11"/>
              <p:cNvSpPr/>
              <p:nvPr/>
            </p:nvSpPr>
            <p:spPr>
              <a:xfrm>
                <a:off x="1735560" y="4937760"/>
                <a:ext cx="330120" cy="80280"/>
              </a:xfrm>
              <a:prstGeom prst="rect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3714840" y="4766040"/>
                <a:ext cx="2421720" cy="1315440"/>
              </a:xfrm>
              <a:prstGeom prst="rect">
                <a:avLst/>
              </a:prstGeom>
              <a:solidFill>
                <a:srgbClr val="99cc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2" name="Oval 13"/>
              <p:cNvSpPr/>
              <p:nvPr/>
            </p:nvSpPr>
            <p:spPr>
              <a:xfrm>
                <a:off x="4087440" y="5894640"/>
                <a:ext cx="573120" cy="51804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3" name="Oval 14"/>
              <p:cNvSpPr/>
              <p:nvPr/>
            </p:nvSpPr>
            <p:spPr>
              <a:xfrm>
                <a:off x="5248440" y="5894640"/>
                <a:ext cx="573120" cy="51804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" name="Rectangle 15"/>
              <p:cNvSpPr/>
              <p:nvPr/>
            </p:nvSpPr>
            <p:spPr>
              <a:xfrm>
                <a:off x="5010840" y="4952520"/>
                <a:ext cx="1003680" cy="83556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5" name="Rectangle 16"/>
              <p:cNvSpPr/>
              <p:nvPr/>
            </p:nvSpPr>
            <p:spPr>
              <a:xfrm>
                <a:off x="3863880" y="4952520"/>
                <a:ext cx="1042920" cy="83556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1434960" y="5482800"/>
                <a:ext cx="85680" cy="53136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236640" y="4766040"/>
                <a:ext cx="2437200" cy="1315440"/>
              </a:xfrm>
              <a:prstGeom prst="rect">
                <a:avLst/>
              </a:prstGeom>
              <a:solidFill>
                <a:srgbClr val="ffb3d9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>
                <a:off x="6624720" y="5894640"/>
                <a:ext cx="559440" cy="51804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9" name="Oval 20"/>
              <p:cNvSpPr/>
              <p:nvPr/>
            </p:nvSpPr>
            <p:spPr>
              <a:xfrm>
                <a:off x="7785720" y="5894640"/>
                <a:ext cx="559440" cy="51804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0" name="Rectangle 21"/>
              <p:cNvSpPr/>
              <p:nvPr/>
            </p:nvSpPr>
            <p:spPr>
              <a:xfrm>
                <a:off x="7507440" y="4952520"/>
                <a:ext cx="1003680" cy="83556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1" name="Rectangle 22"/>
              <p:cNvSpPr/>
              <p:nvPr/>
            </p:nvSpPr>
            <p:spPr>
              <a:xfrm>
                <a:off x="6360480" y="4952520"/>
                <a:ext cx="1042920" cy="83556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12" name="Group 23"/>
          <p:cNvGrpSpPr/>
          <p:nvPr/>
        </p:nvGrpSpPr>
        <p:grpSpPr>
          <a:xfrm>
            <a:off x="755640" y="2476440"/>
            <a:ext cx="7238520" cy="1904760"/>
            <a:chOff x="755640" y="2476440"/>
            <a:chExt cx="7238520" cy="1904760"/>
          </a:xfrm>
        </p:grpSpPr>
        <p:sp>
          <p:nvSpPr>
            <p:cNvPr id="313" name="AutoShape 24"/>
            <p:cNvSpPr/>
            <p:nvPr/>
          </p:nvSpPr>
          <p:spPr>
            <a:xfrm>
              <a:off x="1028520" y="2476440"/>
              <a:ext cx="47419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840600" y="3294360"/>
              <a:ext cx="2036160" cy="70164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128240" y="2868120"/>
              <a:ext cx="186480" cy="42624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6" name="Rectangle 27"/>
            <p:cNvSpPr/>
            <p:nvPr/>
          </p:nvSpPr>
          <p:spPr>
            <a:xfrm>
              <a:off x="1902240" y="2537640"/>
              <a:ext cx="974520" cy="75672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1042560" y="3845160"/>
              <a:ext cx="55764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2203920" y="3845160"/>
              <a:ext cx="55908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9" name="Rectangle 30"/>
            <p:cNvSpPr/>
            <p:nvPr/>
          </p:nvSpPr>
          <p:spPr>
            <a:xfrm>
              <a:off x="2088720" y="2674440"/>
              <a:ext cx="702720" cy="49536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1056960" y="2812680"/>
              <a:ext cx="32832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1" name="Rectangle 32"/>
            <p:cNvSpPr/>
            <p:nvPr/>
          </p:nvSpPr>
          <p:spPr>
            <a:xfrm>
              <a:off x="3034800" y="2633760"/>
              <a:ext cx="2422800" cy="136224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3407400" y="3804120"/>
              <a:ext cx="57348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4568400" y="380412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755640" y="3377520"/>
              <a:ext cx="84960" cy="54936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5556960" y="2633760"/>
              <a:ext cx="2437200" cy="13622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5944320" y="3804120"/>
              <a:ext cx="55908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7105320" y="3804120"/>
              <a:ext cx="55908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4306680" y="2783520"/>
              <a:ext cx="10159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3145680" y="2783520"/>
              <a:ext cx="10555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833520" y="2783520"/>
              <a:ext cx="10159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>
              <a:off x="5672520" y="2783520"/>
              <a:ext cx="10555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32" name="WordArt 43"/>
          <p:cNvSpPr txBox="1"/>
          <p:nvPr/>
        </p:nvSpPr>
        <p:spPr>
          <a:xfrm>
            <a:off x="2124000" y="263700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WordArt 44"/>
          <p:cNvSpPr txBox="1"/>
          <p:nvPr/>
        </p:nvSpPr>
        <p:spPr>
          <a:xfrm>
            <a:off x="4211640" y="5084640"/>
            <a:ext cx="57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WordArt 45"/>
          <p:cNvSpPr txBox="1"/>
          <p:nvPr/>
        </p:nvSpPr>
        <p:spPr>
          <a:xfrm>
            <a:off x="6191280" y="1700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WordArt 46"/>
          <p:cNvSpPr txBox="1"/>
          <p:nvPr/>
        </p:nvSpPr>
        <p:spPr>
          <a:xfrm>
            <a:off x="2771640" y="479736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WordArt 47"/>
          <p:cNvSpPr txBox="1"/>
          <p:nvPr/>
        </p:nvSpPr>
        <p:spPr>
          <a:xfrm>
            <a:off x="3348000" y="2924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WordArt 48"/>
          <p:cNvSpPr txBox="1"/>
          <p:nvPr/>
        </p:nvSpPr>
        <p:spPr>
          <a:xfrm>
            <a:off x="2951280" y="1700280"/>
            <a:ext cx="57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WordArt 49"/>
          <p:cNvSpPr txBox="1"/>
          <p:nvPr/>
        </p:nvSpPr>
        <p:spPr>
          <a:xfrm>
            <a:off x="1332000" y="1700280"/>
            <a:ext cx="57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WordArt 50"/>
          <p:cNvSpPr txBox="1"/>
          <p:nvPr/>
        </p:nvSpPr>
        <p:spPr>
          <a:xfrm>
            <a:off x="7020000" y="2924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WordArt 51"/>
          <p:cNvSpPr txBox="1"/>
          <p:nvPr/>
        </p:nvSpPr>
        <p:spPr>
          <a:xfrm>
            <a:off x="4572000" y="1700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WordArt 52"/>
          <p:cNvSpPr txBox="1"/>
          <p:nvPr/>
        </p:nvSpPr>
        <p:spPr>
          <a:xfrm>
            <a:off x="7812000" y="1700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WordArt 53"/>
          <p:cNvSpPr txBox="1"/>
          <p:nvPr/>
        </p:nvSpPr>
        <p:spPr>
          <a:xfrm>
            <a:off x="6588000" y="5084640"/>
            <a:ext cx="57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AutoShape 54">
            <a:hlinkClick r:id="rId23" action="ppaction://hlinksldjump"/>
          </p:cNvPr>
          <p:cNvSpPr/>
          <p:nvPr/>
        </p:nvSpPr>
        <p:spPr>
          <a:xfrm>
            <a:off x="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35434 0.17338 E">
                                      <p:cBhvr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0.16163 0.4882 E">
                                      <p:cBhvr>
                                        <p:cTn id="157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14184 0.17338 E">
                                      <p:cBhvr>
                                        <p:cTn id="162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-0.28333 0.4882 E">
                                      <p:cBhvr>
                                        <p:cTn id="167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араж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5" name="Picture 3" descr="J0233546"/>
          <p:cNvPicPr/>
          <p:nvPr/>
        </p:nvPicPr>
        <p:blipFill>
          <a:blip r:embed="rId1"/>
          <a:stretch/>
        </p:blipFill>
        <p:spPr>
          <a:xfrm>
            <a:off x="3311640" y="5013360"/>
            <a:ext cx="252072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J0233469"/>
          <p:cNvPicPr/>
          <p:nvPr/>
        </p:nvPicPr>
        <p:blipFill>
          <a:blip r:embed="rId2"/>
          <a:stretch/>
        </p:blipFill>
        <p:spPr>
          <a:xfrm>
            <a:off x="3276720" y="4076640"/>
            <a:ext cx="2106360" cy="998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J0233472"/>
          <p:cNvPicPr/>
          <p:nvPr/>
        </p:nvPicPr>
        <p:blipFill>
          <a:blip r:embed="rId3"/>
          <a:stretch/>
        </p:blipFill>
        <p:spPr>
          <a:xfrm>
            <a:off x="3419640" y="2781360"/>
            <a:ext cx="2016000" cy="11016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611280" y="4149720"/>
            <a:ext cx="2303280" cy="289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588000" y="4149720"/>
            <a:ext cx="1944720" cy="187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11280" y="4508640"/>
            <a:ext cx="2303280" cy="1657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6372360" y="3284640"/>
            <a:ext cx="2303280" cy="79200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971640" y="4869000"/>
            <a:ext cx="792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1763640" y="4869000"/>
            <a:ext cx="79236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6804000" y="4941720"/>
            <a:ext cx="79236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7596360" y="4941720"/>
            <a:ext cx="79200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1476360" y="5013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7236000" y="508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8" name="Picture 16" descr="J0233476"/>
          <p:cNvPicPr/>
          <p:nvPr/>
        </p:nvPicPr>
        <p:blipFill>
          <a:blip r:embed="rId8"/>
          <a:stretch/>
        </p:blipFill>
        <p:spPr>
          <a:xfrm>
            <a:off x="6372360" y="1989000"/>
            <a:ext cx="2092320" cy="93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J0233465"/>
          <p:cNvPicPr/>
          <p:nvPr/>
        </p:nvPicPr>
        <p:blipFill>
          <a:blip r:embed="rId9"/>
          <a:stretch/>
        </p:blipFill>
        <p:spPr>
          <a:xfrm>
            <a:off x="468360" y="2367000"/>
            <a:ext cx="1933560" cy="13334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8"/>
          <p:cNvSpPr/>
          <p:nvPr/>
        </p:nvSpPr>
        <p:spPr>
          <a:xfrm>
            <a:off x="1187280" y="3213000"/>
            <a:ext cx="86544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8+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6516720" y="2060640"/>
            <a:ext cx="8636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7+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4284720" y="2060640"/>
            <a:ext cx="863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3+8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492360" y="5329080"/>
            <a:ext cx="8128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9+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3924360" y="4437000"/>
            <a:ext cx="10080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6+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635280" y="3068640"/>
            <a:ext cx="9367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4+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Line 24"/>
          <p:cNvSpPr/>
          <p:nvPr/>
        </p:nvSpPr>
        <p:spPr>
          <a:xfrm flipH="1" flipV="1">
            <a:off x="1187280" y="3644640"/>
            <a:ext cx="144720" cy="136836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Line 25"/>
          <p:cNvSpPr/>
          <p:nvPr/>
        </p:nvSpPr>
        <p:spPr>
          <a:xfrm flipH="1" flipV="1">
            <a:off x="4571640" y="3500280"/>
            <a:ext cx="2808360" cy="1944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26"/>
          <p:cNvSpPr/>
          <p:nvPr/>
        </p:nvSpPr>
        <p:spPr>
          <a:xfrm flipV="1">
            <a:off x="1979640" y="2491920"/>
            <a:ext cx="4608360" cy="259236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27"/>
          <p:cNvSpPr/>
          <p:nvPr/>
        </p:nvSpPr>
        <p:spPr>
          <a:xfrm flipV="1">
            <a:off x="1908000" y="4868640"/>
            <a:ext cx="2087640" cy="115236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Line 28"/>
          <p:cNvSpPr/>
          <p:nvPr/>
        </p:nvSpPr>
        <p:spPr>
          <a:xfrm flipH="1" flipV="1">
            <a:off x="4571640" y="5373720"/>
            <a:ext cx="2808360" cy="21600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29" descr="J0233481"/>
          <p:cNvPicPr/>
          <p:nvPr/>
        </p:nvPicPr>
        <p:blipFill>
          <a:blip r:embed="rId10"/>
          <a:stretch/>
        </p:blipFill>
        <p:spPr>
          <a:xfrm>
            <a:off x="2700360" y="1413000"/>
            <a:ext cx="2743200" cy="1280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30"/>
          <p:cNvSpPr/>
          <p:nvPr/>
        </p:nvSpPr>
        <p:spPr>
          <a:xfrm>
            <a:off x="4140360" y="1628640"/>
            <a:ext cx="863280" cy="28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3+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31"/>
          <p:cNvSpPr/>
          <p:nvPr/>
        </p:nvSpPr>
        <p:spPr>
          <a:xfrm flipH="1" flipV="1">
            <a:off x="4932000" y="1915920"/>
            <a:ext cx="2303640" cy="31669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AutoShape 32">
            <a:hlinkClick r:id="rId11" action="ppaction://hlinksldjump"/>
          </p:cNvPr>
          <p:cNvSpPr/>
          <p:nvPr/>
        </p:nvSpPr>
        <p:spPr>
          <a:xfrm>
            <a:off x="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0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кружающий ми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7" name="Picture 4" descr="4"/>
          <p:cNvPicPr/>
          <p:nvPr/>
        </p:nvPicPr>
        <p:blipFill>
          <a:blip r:embed="rId1"/>
          <a:stretch/>
        </p:blipFill>
        <p:spPr>
          <a:xfrm>
            <a:off x="1692360" y="460440"/>
            <a:ext cx="6264360" cy="1800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litt062"/>
          <p:cNvPicPr/>
          <p:nvPr/>
        </p:nvPicPr>
        <p:blipFill>
          <a:blip r:embed="rId2"/>
          <a:stretch/>
        </p:blipFill>
        <p:spPr>
          <a:xfrm>
            <a:off x="4716360" y="3933720"/>
            <a:ext cx="2592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wz8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синица"/>
          <p:cNvPicPr/>
          <p:nvPr/>
        </p:nvPicPr>
        <p:blipFill>
          <a:blip r:embed="rId2"/>
          <a:stretch/>
        </p:blipFill>
        <p:spPr>
          <a:xfrm>
            <a:off x="6300720" y="249228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кукушка"/>
          <p:cNvPicPr/>
          <p:nvPr/>
        </p:nvPicPr>
        <p:blipFill>
          <a:blip r:embed="rId3"/>
          <a:stretch/>
        </p:blipFill>
        <p:spPr>
          <a:xfrm>
            <a:off x="3203640" y="3716280"/>
            <a:ext cx="2881080" cy="2544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соловей"/>
          <p:cNvPicPr/>
          <p:nvPr/>
        </p:nvPicPr>
        <p:blipFill>
          <a:blip r:embed="rId4"/>
          <a:stretch/>
        </p:blipFill>
        <p:spPr>
          <a:xfrm>
            <a:off x="179280" y="1557360"/>
            <a:ext cx="2805120" cy="31208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179280" y="4259160"/>
            <a:ext cx="2855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лов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6300720" y="4714920"/>
            <a:ext cx="2519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иниц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3203640" y="5694480"/>
            <a:ext cx="2914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укуш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6" name="Picture 9" descr=""/>
          <p:cNvPicPr/>
          <p:nvPr/>
        </p:nvPicPr>
        <p:blipFill>
          <a:blip r:embed="rId5"/>
          <a:stretch/>
        </p:blipFill>
        <p:spPr>
          <a:xfrm>
            <a:off x="8317080" y="47959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387" name="WordArt 10"/>
          <p:cNvSpPr txBox="1"/>
          <p:nvPr/>
        </p:nvSpPr>
        <p:spPr>
          <a:xfrm>
            <a:off x="61128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6f000"/>
                  </a:outerShdw>
                </a:effectLst>
                <a:latin typeface="Comic Sans MS"/>
              </a:rPr>
              <a:t>Птичий концерт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53966" dir="2700000" blurRad="0" rotWithShape="0">
                  <a:srgbClr val="f6f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2484360" y="4365720"/>
            <a:ext cx="398520" cy="398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"/>
          <p:cNvPicPr/>
          <p:nvPr/>
        </p:nvPicPr>
        <p:blipFill>
          <a:blip r:embed="rId7"/>
          <a:stretch/>
        </p:blipFill>
        <p:spPr>
          <a:xfrm>
            <a:off x="5580000" y="5805360"/>
            <a:ext cx="41112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7828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328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328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828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2599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427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927"/>
                            </p:stCondLst>
                            <p:childTnLst>
                              <p:par>
                                <p:cTn id="2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4427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270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9280" y="5229000"/>
            <a:ext cx="89647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ell MT"/>
              </a:rPr>
              <a:t>КАКИЕ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ОСОЛАПЫЕ, БУРЫЕ, СИЛЬНЫ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1" name="Picture 3" descr="II_504"/>
          <p:cNvPicPr/>
          <p:nvPr/>
        </p:nvPicPr>
        <p:blipFill>
          <a:blip r:embed="rId1"/>
          <a:stretch/>
        </p:blipFill>
        <p:spPr>
          <a:xfrm>
            <a:off x="1619280" y="189000"/>
            <a:ext cx="7410600" cy="49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8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28216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ell MT"/>
              </a:rPr>
              <a:t>КАКОЙ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ЗЛОЙ, СЕРЫЙ, ХИЩНЫ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3" name="Picture 3" descr="xa-wolf-16"/>
          <p:cNvPicPr/>
          <p:nvPr/>
        </p:nvPicPr>
        <p:blipFill>
          <a:blip r:embed="rId1"/>
          <a:stretch/>
        </p:blipFill>
        <p:spPr>
          <a:xfrm>
            <a:off x="179280" y="260280"/>
            <a:ext cx="6048360" cy="47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8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прарврр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7029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3"/>
          <p:cNvSpPr txBox="1"/>
          <p:nvPr/>
        </p:nvSpPr>
        <p:spPr>
          <a:xfrm>
            <a:off x="2124000" y="1916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77353" dir="4837521" blurRad="0" rotWithShape="0">
                    <a:srgbClr val="0000ff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77353" dir="4837521" blurRad="0" rotWithShape="0">
                  <a:srgbClr val="0000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тературное чт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ag00030_"/>
          <p:cNvPicPr/>
          <p:nvPr/>
        </p:nvPicPr>
        <p:blipFill>
          <a:blip r:embed="rId1"/>
          <a:stretch/>
        </p:blipFill>
        <p:spPr>
          <a:xfrm>
            <a:off x="3995640" y="1844640"/>
            <a:ext cx="453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гния Бар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колько раз просыпался ночью мальчик Петя и поч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чему сегодня Петя просыпался десять раз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тому, что он сегодня 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тупает в первый класс.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"В школу"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8388360" y="0"/>
            <a:ext cx="755640" cy="669960"/>
          </a:xfrm>
          <a:prstGeom prst="ellipse">
            <a:avLst/>
          </a:prstGeom>
          <a:solidFill>
            <a:srgbClr val="9bd9a5">
              <a:alpha val="66000"/>
            </a:srgbClr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гния Бар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мощница, у которой "много дел"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Танюши дел немало,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Танюши много дел.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тром брату помогала: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 с утра конфету 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"Помощница"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8388360" y="0"/>
            <a:ext cx="755640" cy="669960"/>
          </a:xfrm>
          <a:prstGeom prst="ellipse">
            <a:avLst/>
          </a:prstGeom>
          <a:solidFill>
            <a:srgbClr val="f7d1f0">
              <a:alpha val="66000"/>
            </a:srgbClr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Century Gothic"/>
              </a:rPr>
              <a:t>3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гния Бар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92360" y="169992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зовут героя стихотворени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1763640" y="2924280"/>
            <a:ext cx="5904000" cy="3168720"/>
          </a:xfrm>
          <a:prstGeom prst="foldedCorner">
            <a:avLst>
              <a:gd name="adj" fmla="val 12500"/>
            </a:avLst>
          </a:prstGeom>
          <a:solidFill>
            <a:srgbClr val="b5b5ed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лышам и взрослым людям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аренёк махал рукой.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 ним теперь знакомы будем 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Это Вовка - есть такой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8388360" y="0"/>
            <a:ext cx="755640" cy="669960"/>
          </a:xfrm>
          <a:prstGeom prst="ellipse">
            <a:avLst/>
          </a:prstGeom>
          <a:solidFill>
            <a:srgbClr val="d7dc98">
              <a:alpha val="66000"/>
            </a:srgbClr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68360" y="333360"/>
            <a:ext cx="8388360" cy="1150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8317080" y="6093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1206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131" h="21600">
                <a:moveTo>
                  <a:pt x="1206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131" h="21600">
                <a:moveTo>
                  <a:pt x="9489" y="8224"/>
                </a:moveTo>
                <a:lnTo>
                  <a:pt x="13354" y="8224"/>
                </a:lnTo>
                <a:lnTo>
                  <a:pt x="13354" y="15221"/>
                </a:lnTo>
                <a:lnTo>
                  <a:pt x="14642" y="15221"/>
                </a:lnTo>
                <a:lnTo>
                  <a:pt x="14642" y="16144"/>
                </a:lnTo>
                <a:lnTo>
                  <a:pt x="9489" y="16144"/>
                </a:lnTo>
                <a:lnTo>
                  <a:pt x="9489" y="15221"/>
                </a:lnTo>
                <a:lnTo>
                  <a:pt x="10778" y="15221"/>
                </a:lnTo>
                <a:lnTo>
                  <a:pt x="10778" y="9129"/>
                </a:lnTo>
                <a:lnTo>
                  <a:pt x="9489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70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700" spc="-1" strike="noStrike">
                <a:solidFill>
                  <a:srgbClr val="006699"/>
                </a:solidFill>
                <a:latin typeface="Calligraph"/>
              </a:rPr>
              <a:t>Русский язык</a:t>
            </a:r>
            <a:endParaRPr b="0" lang="en-US" sz="8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5" descr="j0232133"/>
          <p:cNvPicPr/>
          <p:nvPr/>
        </p:nvPicPr>
        <p:blipFill>
          <a:blip r:embed="rId1"/>
          <a:stretch/>
        </p:blipFill>
        <p:spPr>
          <a:xfrm>
            <a:off x="5796000" y="306864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Россия – наша стр  н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Мы з  вём её Родиной.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Здесь мы р  дились, всё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тут для нас р  дное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Ударение над гласной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Мо</a:t>
            </a: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же</a:t>
            </a: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т сделать букву ясной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4356000" y="4437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5" descr="j0232180[1]"/>
          <p:cNvPicPr/>
          <p:nvPr/>
        </p:nvPicPr>
        <p:blipFill>
          <a:blip r:embed="rId1"/>
          <a:stretch/>
        </p:blipFill>
        <p:spPr>
          <a:xfrm>
            <a:off x="4356000" y="4581360"/>
            <a:ext cx="647640" cy="615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3801960" y="3645000"/>
            <a:ext cx="5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763640" y="285264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7041240" y="20098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9" descr="j0232180[1]"/>
          <p:cNvPicPr/>
          <p:nvPr/>
        </p:nvPicPr>
        <p:blipFill>
          <a:blip r:embed="rId2"/>
          <a:stretch/>
        </p:blipFill>
        <p:spPr>
          <a:xfrm>
            <a:off x="3780000" y="386064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j0232180[1]"/>
          <p:cNvPicPr/>
          <p:nvPr/>
        </p:nvPicPr>
        <p:blipFill>
          <a:blip r:embed="rId3"/>
          <a:stretch/>
        </p:blipFill>
        <p:spPr>
          <a:xfrm>
            <a:off x="6948360" y="2205000"/>
            <a:ext cx="648000" cy="614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j0232180[1]"/>
          <p:cNvPicPr/>
          <p:nvPr/>
        </p:nvPicPr>
        <p:blipFill>
          <a:blip r:embed="rId4"/>
          <a:stretch/>
        </p:blipFill>
        <p:spPr>
          <a:xfrm>
            <a:off x="1522440" y="270036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герб"/>
          <p:cNvPicPr/>
          <p:nvPr/>
        </p:nvPicPr>
        <p:blipFill>
          <a:blip r:embed="rId5"/>
          <a:stretch/>
        </p:blipFill>
        <p:spPr>
          <a:xfrm>
            <a:off x="539640" y="5373720"/>
            <a:ext cx="1033560" cy="117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флаг2"/>
          <p:cNvPicPr/>
          <p:nvPr/>
        </p:nvPicPr>
        <p:blipFill>
          <a:blip r:embed="rId6"/>
          <a:stretch/>
        </p:blipFill>
        <p:spPr>
          <a:xfrm>
            <a:off x="7308720" y="5300640"/>
            <a:ext cx="1333800" cy="1244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IMG_0425"/>
          <p:cNvPicPr/>
          <p:nvPr/>
        </p:nvPicPr>
        <p:blipFill>
          <a:blip r:embed="rId7"/>
          <a:stretch/>
        </p:blipFill>
        <p:spPr>
          <a:xfrm>
            <a:off x="3276720" y="5218200"/>
            <a:ext cx="2187360" cy="16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4.44444E-006 7.40741E-007 C -0.07639 -0.10949 -0.15278 -0.21898 -0.1632 -0.29213 C -0.17379 -0.36551 -0.09098 -0.41505 -0.06355 -0.44421 C -0.03594 -0.47315 -0.01632 -0.46875 0.00243 -0.46435 E">
                                      <p:cBhvr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3.05556E-006 2.60116E-006 C -0.0927 -0.1237 -0.18541 -0.24717 -0.15711 -0.34682 C -0.12881 -0.44671 0.11511 -0.55677 0.1698 -0.59839 E">
                                      <p:cBhvr>
                                        <p:cTn id="82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Motion origin="layout" path="M -0.00138 -0.05278 C -0.09722 -0.12639 -0.19288 -0.19954 -0.16961 -0.25995 C -0.14635 -0.32037 0.1073 -0.3419 0.1382 -0.41435 C 0.1691 -0.48704 0.03612 -0.64884 0.01598 -0.6956 E">
                                      <p:cBhvr>
                                        <p:cTn id="86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Motion origin="layout" path="M 0.03802 -0.17245 C 0.02552 -0.17546 0.0184 -0.17546 0.00833 -0.18865 C 0.00312 -0.19514 -0.00261 -0.20162 -0.00782 -0.20833 C -0.00973 -0.21088 -0.01372 -0.21643 -0.01372 -0.21597 C -0.02344 -0.2449 -0.01962 -0.23125 -0.0257 -0.25625 C -0.025 -0.28032 -0.02553 -0.30416 -0.02379 -0.32824 C -0.02327 -0.3331 -0.02049 -0.33565 -0.01962 -0.34004 C -0.01546 -0.35833 -0.02084 -0.36273 -0.00973 -0.3794 C 0.00625 -0.40393 0.01666 -0.40602 0.03611 -0.41551 C 0.04809 -0.41435 0.06007 -0.41389 0.0717 -0.41157 C 0.07743 -0.41041 0.08211 -0.40347 0.08767 -0.39953 C 0.11371 -0.38078 0.13194 -0.33472 0.14322 -0.28426 C 0.14826 -0.26203 0.14982 -0.23842 0.1552 -0.21643 C 0.15816 -0.19305 0.1592 -0.16852 0.16128 -0.14444 C 0.16041 -0.09907 0.16597 -0.05069 0.15729 -0.00879 C 0.14982 0.02616 0.13628 0.05278 0.12343 0.07871 C 0.11215 0.10139 0.09913 0.1375 0.08576 0.15463 C 0.06649 0.17894 0.04218 0.18912 0.01996 0.19445 C 0.00156 0.19306 -0.01719 0.1926 -0.03559 0.19051 C -0.04584 0.18912 -0.04132 0.18611 -0.04966 0.17871 C -0.05695 0.17199 -0.06407 0.17084 -0.07136 0.1625 C -0.0783 0.15463 -0.0816 0.14375 -0.08924 0.13843 C -0.0948 0.12801 -0.10226 0.12223 -0.10712 0.11042 C -0.11563 0.09074 -0.12396 0.0669 -0.129 0.04283 C -0.13455 0.01667 -0.13525 -0.01736 -0.14289 -0.04051 C -0.14723 -0.06713 -0.14705 -0.09652 -0.14896 -0.1243 C -0.15105 -0.19953 -0.15087 -0.27338 -0.14705 -0.34791 C -0.14532 -0.3824 -0.14462 -0.40648 -0.13507 -0.43518 C -0.13143 -0.45879 -0.11997 -0.49328 -0.11112 -0.51111 C -0.10625 -0.53078 -0.09809 -0.54398 -0.09323 -0.56319 C -0.08612 -0.59166 -0.09914 -0.55393 -0.08716 -0.59514 C -0.07605 -0.63356 -0.05955 -0.66574 -0.04341 -0.69514 C -0.02865 -0.72199 -0.01563 -0.75671 0.00416 -0.7699 C 0.01059 -0.7831 0.01736 -0.79213 0.02604 -0.79791 C 0.06822 -0.86389 0.11614 -0.84583 0.16927 -0.84583 E">
                                      <p:cBhvr>
                                        <p:cTn id="90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1280" y="19800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омоги Красной шапочке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спуститься по лесенке,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одбирая проверочные слов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Picture 3" descr="кр шап1"/>
          <p:cNvPicPr/>
          <p:nvPr/>
        </p:nvPicPr>
        <p:blipFill>
          <a:blip r:embed="rId1"/>
          <a:srcRect l="38407" t="12169" r="0" b="0"/>
          <a:stretch/>
        </p:blipFill>
        <p:spPr>
          <a:xfrm>
            <a:off x="1835280" y="1125360"/>
            <a:ext cx="1525320" cy="25099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2195640" y="3357720"/>
            <a:ext cx="1512720" cy="504720"/>
            <a:chOff x="2195640" y="3357720"/>
            <a:chExt cx="1512720" cy="504720"/>
          </a:xfrm>
        </p:grpSpPr>
        <p:sp>
          <p:nvSpPr>
            <p:cNvPr id="211" name="Rectangle 5"/>
            <p:cNvSpPr/>
            <p:nvPr/>
          </p:nvSpPr>
          <p:spPr>
            <a:xfrm>
              <a:off x="2195640" y="3357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2698920" y="3357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3203640" y="3357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2195640" y="3860640"/>
            <a:ext cx="2016000" cy="504720"/>
            <a:chOff x="2195640" y="3860640"/>
            <a:chExt cx="2016000" cy="504720"/>
          </a:xfrm>
        </p:grpSpPr>
        <p:sp>
          <p:nvSpPr>
            <p:cNvPr id="215" name="Rectangle 9"/>
            <p:cNvSpPr/>
            <p:nvPr/>
          </p:nvSpPr>
          <p:spPr>
            <a:xfrm>
              <a:off x="219564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Ф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269892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20364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370692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9" name="Group 13"/>
          <p:cNvGrpSpPr/>
          <p:nvPr/>
        </p:nvGrpSpPr>
        <p:grpSpPr>
          <a:xfrm>
            <a:off x="2195640" y="4365720"/>
            <a:ext cx="2520720" cy="504720"/>
            <a:chOff x="2195640" y="4365720"/>
            <a:chExt cx="2520720" cy="504720"/>
          </a:xfrm>
        </p:grpSpPr>
        <p:sp>
          <p:nvSpPr>
            <p:cNvPr id="220" name="Rectangle 14"/>
            <p:cNvSpPr/>
            <p:nvPr/>
          </p:nvSpPr>
          <p:spPr>
            <a:xfrm>
              <a:off x="219564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269892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320364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370692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421164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25" name="Group 19"/>
          <p:cNvGrpSpPr/>
          <p:nvPr/>
        </p:nvGrpSpPr>
        <p:grpSpPr>
          <a:xfrm>
            <a:off x="2195640" y="4869000"/>
            <a:ext cx="3024000" cy="504720"/>
            <a:chOff x="2195640" y="4869000"/>
            <a:chExt cx="3024000" cy="504720"/>
          </a:xfrm>
        </p:grpSpPr>
        <p:sp>
          <p:nvSpPr>
            <p:cNvPr id="226" name="Rectangle 20"/>
            <p:cNvSpPr/>
            <p:nvPr/>
          </p:nvSpPr>
          <p:spPr>
            <a:xfrm>
              <a:off x="219564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269892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8" name="Rectangle 22"/>
            <p:cNvSpPr/>
            <p:nvPr/>
          </p:nvSpPr>
          <p:spPr>
            <a:xfrm>
              <a:off x="320364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Rectangle 23"/>
            <p:cNvSpPr/>
            <p:nvPr/>
          </p:nvSpPr>
          <p:spPr>
            <a:xfrm>
              <a:off x="370692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21164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471492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32" name="Group 26"/>
          <p:cNvGrpSpPr/>
          <p:nvPr/>
        </p:nvGrpSpPr>
        <p:grpSpPr>
          <a:xfrm>
            <a:off x="2195640" y="5373720"/>
            <a:ext cx="3528720" cy="504720"/>
            <a:chOff x="2195640" y="5373720"/>
            <a:chExt cx="3528720" cy="504720"/>
          </a:xfrm>
        </p:grpSpPr>
        <p:sp>
          <p:nvSpPr>
            <p:cNvPr id="233" name="Rectangle 27"/>
            <p:cNvSpPr/>
            <p:nvPr/>
          </p:nvSpPr>
          <p:spPr>
            <a:xfrm>
              <a:off x="2195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269892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3203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Rectangle 30"/>
            <p:cNvSpPr/>
            <p:nvPr/>
          </p:nvSpPr>
          <p:spPr>
            <a:xfrm>
              <a:off x="370692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Rectangle 31"/>
            <p:cNvSpPr/>
            <p:nvPr/>
          </p:nvSpPr>
          <p:spPr>
            <a:xfrm>
              <a:off x="4211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Rectangle 32"/>
            <p:cNvSpPr/>
            <p:nvPr/>
          </p:nvSpPr>
          <p:spPr>
            <a:xfrm>
              <a:off x="471492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Rectangle 33"/>
            <p:cNvSpPr/>
            <p:nvPr/>
          </p:nvSpPr>
          <p:spPr>
            <a:xfrm>
              <a:off x="5219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40" name="Group 34"/>
          <p:cNvGrpSpPr/>
          <p:nvPr/>
        </p:nvGrpSpPr>
        <p:grpSpPr>
          <a:xfrm>
            <a:off x="2195640" y="5877000"/>
            <a:ext cx="4032000" cy="504720"/>
            <a:chOff x="2195640" y="5877000"/>
            <a:chExt cx="4032000" cy="504720"/>
          </a:xfrm>
        </p:grpSpPr>
        <p:sp>
          <p:nvSpPr>
            <p:cNvPr id="241" name="Rectangle 35"/>
            <p:cNvSpPr/>
            <p:nvPr/>
          </p:nvSpPr>
          <p:spPr>
            <a:xfrm>
              <a:off x="2195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Rectangle 36"/>
            <p:cNvSpPr/>
            <p:nvPr/>
          </p:nvSpPr>
          <p:spPr>
            <a:xfrm>
              <a:off x="2698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Rectangle 37"/>
            <p:cNvSpPr/>
            <p:nvPr/>
          </p:nvSpPr>
          <p:spPr>
            <a:xfrm>
              <a:off x="3203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3706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Rectangle 39"/>
            <p:cNvSpPr/>
            <p:nvPr/>
          </p:nvSpPr>
          <p:spPr>
            <a:xfrm>
              <a:off x="4211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Rectangle 40"/>
            <p:cNvSpPr/>
            <p:nvPr/>
          </p:nvSpPr>
          <p:spPr>
            <a:xfrm>
              <a:off x="4714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Rectangle 41"/>
            <p:cNvSpPr/>
            <p:nvPr/>
          </p:nvSpPr>
          <p:spPr>
            <a:xfrm>
              <a:off x="5219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Rectangle 42"/>
            <p:cNvSpPr/>
            <p:nvPr/>
          </p:nvSpPr>
          <p:spPr>
            <a:xfrm>
              <a:off x="5722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49" name="Group 43"/>
          <p:cNvGrpSpPr/>
          <p:nvPr/>
        </p:nvGrpSpPr>
        <p:grpSpPr>
          <a:xfrm>
            <a:off x="2195640" y="3355920"/>
            <a:ext cx="1512720" cy="504720"/>
            <a:chOff x="2195640" y="3355920"/>
            <a:chExt cx="1512720" cy="504720"/>
          </a:xfrm>
        </p:grpSpPr>
        <p:sp>
          <p:nvSpPr>
            <p:cNvPr id="250" name="Rectangle 44"/>
            <p:cNvSpPr/>
            <p:nvPr/>
          </p:nvSpPr>
          <p:spPr>
            <a:xfrm>
              <a:off x="2195640" y="33559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1" name="Rectangle 45"/>
            <p:cNvSpPr/>
            <p:nvPr/>
          </p:nvSpPr>
          <p:spPr>
            <a:xfrm>
              <a:off x="2698920" y="33559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3203640" y="33559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53" name="Group 47"/>
          <p:cNvGrpSpPr/>
          <p:nvPr/>
        </p:nvGrpSpPr>
        <p:grpSpPr>
          <a:xfrm>
            <a:off x="2195640" y="3860640"/>
            <a:ext cx="2016000" cy="504720"/>
            <a:chOff x="2195640" y="3860640"/>
            <a:chExt cx="2016000" cy="504720"/>
          </a:xfrm>
        </p:grpSpPr>
        <p:sp>
          <p:nvSpPr>
            <p:cNvPr id="254" name="Rectangle 48"/>
            <p:cNvSpPr/>
            <p:nvPr/>
          </p:nvSpPr>
          <p:spPr>
            <a:xfrm>
              <a:off x="219564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Ф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Rectangle 49"/>
            <p:cNvSpPr/>
            <p:nvPr/>
          </p:nvSpPr>
          <p:spPr>
            <a:xfrm>
              <a:off x="269892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Rectangle 50"/>
            <p:cNvSpPr/>
            <p:nvPr/>
          </p:nvSpPr>
          <p:spPr>
            <a:xfrm>
              <a:off x="320364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Rectangle 51"/>
            <p:cNvSpPr/>
            <p:nvPr/>
          </p:nvSpPr>
          <p:spPr>
            <a:xfrm>
              <a:off x="3706920" y="386064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58" name="Group 52"/>
          <p:cNvGrpSpPr/>
          <p:nvPr/>
        </p:nvGrpSpPr>
        <p:grpSpPr>
          <a:xfrm>
            <a:off x="2195640" y="4365720"/>
            <a:ext cx="2520720" cy="504720"/>
            <a:chOff x="2195640" y="4365720"/>
            <a:chExt cx="2520720" cy="504720"/>
          </a:xfrm>
        </p:grpSpPr>
        <p:sp>
          <p:nvSpPr>
            <p:cNvPr id="259" name="Rectangle 53"/>
            <p:cNvSpPr/>
            <p:nvPr/>
          </p:nvSpPr>
          <p:spPr>
            <a:xfrm>
              <a:off x="219564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Rectangle 54"/>
            <p:cNvSpPr/>
            <p:nvPr/>
          </p:nvSpPr>
          <p:spPr>
            <a:xfrm>
              <a:off x="269892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Rectangle 55"/>
            <p:cNvSpPr/>
            <p:nvPr/>
          </p:nvSpPr>
          <p:spPr>
            <a:xfrm>
              <a:off x="320364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Rectangle 56"/>
            <p:cNvSpPr/>
            <p:nvPr/>
          </p:nvSpPr>
          <p:spPr>
            <a:xfrm>
              <a:off x="370692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4211640" y="4365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64" name="Group 58"/>
          <p:cNvGrpSpPr/>
          <p:nvPr/>
        </p:nvGrpSpPr>
        <p:grpSpPr>
          <a:xfrm>
            <a:off x="2195640" y="4869000"/>
            <a:ext cx="3024000" cy="504720"/>
            <a:chOff x="2195640" y="4869000"/>
            <a:chExt cx="3024000" cy="504720"/>
          </a:xfrm>
        </p:grpSpPr>
        <p:sp>
          <p:nvSpPr>
            <p:cNvPr id="265" name="Rectangle 59"/>
            <p:cNvSpPr/>
            <p:nvPr/>
          </p:nvSpPr>
          <p:spPr>
            <a:xfrm>
              <a:off x="219564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Rectangle 60"/>
            <p:cNvSpPr/>
            <p:nvPr/>
          </p:nvSpPr>
          <p:spPr>
            <a:xfrm>
              <a:off x="269892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320364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8" name="Rectangle 62"/>
            <p:cNvSpPr/>
            <p:nvPr/>
          </p:nvSpPr>
          <p:spPr>
            <a:xfrm>
              <a:off x="370692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421164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4714920" y="4869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Ж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71" name="Group 65"/>
          <p:cNvGrpSpPr/>
          <p:nvPr/>
        </p:nvGrpSpPr>
        <p:grpSpPr>
          <a:xfrm>
            <a:off x="2195640" y="5373720"/>
            <a:ext cx="3528720" cy="504720"/>
            <a:chOff x="2195640" y="5373720"/>
            <a:chExt cx="3528720" cy="504720"/>
          </a:xfrm>
        </p:grpSpPr>
        <p:sp>
          <p:nvSpPr>
            <p:cNvPr id="272" name="Rectangle 66"/>
            <p:cNvSpPr/>
            <p:nvPr/>
          </p:nvSpPr>
          <p:spPr>
            <a:xfrm>
              <a:off x="2195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3" name="Rectangle 67"/>
            <p:cNvSpPr/>
            <p:nvPr/>
          </p:nvSpPr>
          <p:spPr>
            <a:xfrm>
              <a:off x="269892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4" name="Rectangle 68"/>
            <p:cNvSpPr/>
            <p:nvPr/>
          </p:nvSpPr>
          <p:spPr>
            <a:xfrm>
              <a:off x="3203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Rectangle 69"/>
            <p:cNvSpPr/>
            <p:nvPr/>
          </p:nvSpPr>
          <p:spPr>
            <a:xfrm>
              <a:off x="370692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Rectangle 70"/>
            <p:cNvSpPr/>
            <p:nvPr/>
          </p:nvSpPr>
          <p:spPr>
            <a:xfrm>
              <a:off x="4211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Rectangle 71"/>
            <p:cNvSpPr/>
            <p:nvPr/>
          </p:nvSpPr>
          <p:spPr>
            <a:xfrm>
              <a:off x="471492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8" name="Rectangle 72"/>
            <p:cNvSpPr/>
            <p:nvPr/>
          </p:nvSpPr>
          <p:spPr>
            <a:xfrm>
              <a:off x="5219640" y="537372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79" name="Group 73"/>
          <p:cNvGrpSpPr/>
          <p:nvPr/>
        </p:nvGrpSpPr>
        <p:grpSpPr>
          <a:xfrm>
            <a:off x="2195640" y="5877000"/>
            <a:ext cx="4032000" cy="504720"/>
            <a:chOff x="2195640" y="5877000"/>
            <a:chExt cx="4032000" cy="504720"/>
          </a:xfrm>
        </p:grpSpPr>
        <p:sp>
          <p:nvSpPr>
            <p:cNvPr id="280" name="Rectangle 74"/>
            <p:cNvSpPr/>
            <p:nvPr/>
          </p:nvSpPr>
          <p:spPr>
            <a:xfrm>
              <a:off x="2195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Rectangle 75"/>
            <p:cNvSpPr/>
            <p:nvPr/>
          </p:nvSpPr>
          <p:spPr>
            <a:xfrm>
              <a:off x="2698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Rectangle 76"/>
            <p:cNvSpPr/>
            <p:nvPr/>
          </p:nvSpPr>
          <p:spPr>
            <a:xfrm>
              <a:off x="3203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Rectangle 77"/>
            <p:cNvSpPr/>
            <p:nvPr/>
          </p:nvSpPr>
          <p:spPr>
            <a:xfrm>
              <a:off x="3706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Rectangle 78"/>
            <p:cNvSpPr/>
            <p:nvPr/>
          </p:nvSpPr>
          <p:spPr>
            <a:xfrm>
              <a:off x="4211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Rectangle 79"/>
            <p:cNvSpPr/>
            <p:nvPr/>
          </p:nvSpPr>
          <p:spPr>
            <a:xfrm>
              <a:off x="4714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Rectangle 80"/>
            <p:cNvSpPr/>
            <p:nvPr/>
          </p:nvSpPr>
          <p:spPr>
            <a:xfrm>
              <a:off x="521964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Rectangle 81"/>
            <p:cNvSpPr/>
            <p:nvPr/>
          </p:nvSpPr>
          <p:spPr>
            <a:xfrm>
              <a:off x="5722920" y="58770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Ш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88" name="Picture 82" descr="domik12"/>
          <p:cNvPicPr/>
          <p:nvPr/>
        </p:nvPicPr>
        <p:blipFill>
          <a:blip r:embed="rId2"/>
          <a:stretch/>
        </p:blipFill>
        <p:spPr>
          <a:xfrm>
            <a:off x="0" y="0"/>
            <a:ext cx="26272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0.01295 C 0.04757 0.00601 0.04323 0.00902 0.0776 0.01087 C 0.10555 0.01503 0.13437 0.00832 0.1618 0.01711 C 0.16475 0.0289 0.16649 0.04069 0.16649 0.05318 E">
                                      <p:cBhvr>
                                        <p:cTn id="10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49 0.05318 C 0.24132 0.05572 0.21875 0.04393 0.21875 0.13526 E">
                                      <p:cBhvr>
                                        <p:cTn id="11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875 0.13526 C 0.22916 0.12208 0.246 0.13341 0.2585 0.13734 C 0.26215 0.13988 0.26718 0.13942 0.26961 0.14381 C 0.27986 0.16277 0.27274 0.19029 0.27274 0.21364 E">
                                      <p:cBhvr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74 0.21364 C 0.28576 0.2141 0.29878 0.21364 0.3118 0.21526 C 0.31892 0.21618 0.31927 0.23584 0.32031 0.24092 C 0.32621 0.2689 0.32552 0.25572 0.32552 0.29965 E">
                                      <p:cBhvr>
                                        <p:cTn id="12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552 0.29966 C 0.35712 0.30058 0.35521 0.29665 0.36736 0.30659 C 0.36805 0.30775 0.36875 0.30891 0.36927 0.31006 C 0.36996 0.31168 0.37048 0.31307 0.37135 0.31469 C 0.37239 0.317 0.37517 0.32162 0.37517 0.32185 C 0.37656 0.33873 0.38142 0.35677 0.38142 0.37411 E">
                                      <p:cBhvr>
                                        <p:cTn id="13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142 0.37411 C 0.39236 0.36925 0.40382 0.37272 0.41476 0.37619 C 0.42066 0.38151 0.42708 0.38405 0.43385 0.38683 C 0.43872 0.39122 0.44097 0.3963 0.44497 0.40162 C 0.45052 0.42405 0.44167 0.39006 0.44965 0.41434 C 0.45191 0.42104 0.45243 0.42659 0.45434 0.4333 C 0.45608 0.43954 0.4592 0.45226 0.4592 0.45249 C 0.46146 0.47399 0.46076 0.46197 0.46076 0.48833 E">
                                      <p:cBhvr>
                                        <p:cTn id="14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атема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0" name="Picture 6" descr="Безымянный 77"/>
          <p:cNvPicPr/>
          <p:nvPr/>
        </p:nvPicPr>
        <p:blipFill>
          <a:blip r:embed="rId1"/>
          <a:stretch/>
        </p:blipFill>
        <p:spPr>
          <a:xfrm>
            <a:off x="3995640" y="1628640"/>
            <a:ext cx="4802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11:55Z</dcterms:created>
  <dc:creator>1</dc:creator>
  <dc:description/>
  <dc:language>en-US</dc:language>
  <cp:lastModifiedBy>Admin</cp:lastModifiedBy>
  <dcterms:modified xsi:type="dcterms:W3CDTF">2009-06-10T18:34:27Z</dcterms:modified>
  <cp:revision>4</cp:revision>
  <dc:subject/>
  <dc:title>Агния Барто</dc:title>
</cp:coreProperties>
</file>