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AAEC-CB3E-4CAF-BB86-B6017909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98E7-1414-4721-BE05-79A42D24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2673-F82E-4B4F-8CB9-08883CF3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93A1-95FF-45A9-9E4D-6B7BED10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4CBC-1305-4A23-A4C5-2E960693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97F1-7D08-452B-B2B6-E3270192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3698-52C0-4564-882D-F28F6AFF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E488-9238-4CD8-9F88-0FD8ACF7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4880-6871-43AD-A82D-6CFD231C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719C-A17A-4FEE-B247-FCE75FFE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79FB-2523-4825-BDC7-C0665B99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64EF-EDDB-4ED9-9EBD-C3C6B9CA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1980-A6F9-4413-AE24-667DDEF0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F4A5-7D37-4234-BB47-5DFB94CB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244B-FFE6-493C-BB9F-400E906D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69CF-532C-4241-AF27-DBF18C52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F48F-EBF6-4DF6-8303-9C9F473C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2541-1558-4B20-B706-C996CB17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0F57-3534-48D9-A562-1B58B232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59DE-3D92-40C0-BE18-0FA216C3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7148-8031-4D72-8E35-65028CF9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E833-CF25-424F-A1AC-FBF5C605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B340-EA31-4335-AC47-0CF3EB53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A4A9-1934-472A-994B-A9C34469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6DCF-9B74-4C6E-8433-94188F32B5F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8525-6FC3-4392-985D-BDB209CC412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63128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Verdana"/>
              </a:rPr>
              <a:t>Эмоциональные состояния взрослого и ребёнка.</a:t>
            </a:r>
            <a:br>
              <a:rPr sz="4800"/>
            </a:br>
            <a:r>
              <a:rPr b="1" lang="en-US" sz="4800" spc="-1" strike="noStrike">
                <a:solidFill>
                  <a:srgbClr val="006699"/>
                </a:solidFill>
                <a:latin typeface="Verdana"/>
              </a:rPr>
              <a:t>Что стоит за ними?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Занятие в школе родительского актива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1 класс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Сахарчук Н.М.,  учитель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МОУ СОШ №7 г. Фурманова.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-539280"/>
            <a:ext cx="82440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Пусть в каждом доме царит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                 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мир,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    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    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    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    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добро   и    счастье.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256000" cy="280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98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98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98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98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98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98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98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404640"/>
            <a:ext cx="82440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Ласковость больше в один час детей исправит, чем суровость в целый год.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А.Д.Кантемир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3645000"/>
            <a:ext cx="8137440" cy="22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329080" cy="367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Азбука родителей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5256000" cy="4464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9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701200" cy="62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6666"/>
                </a:solidFill>
                <a:uFillTx/>
                <a:latin typeface="Verdana"/>
              </a:rPr>
              <a:t>Аффект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- это сильное и относительно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кратковременное эмоциональное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состояние, связанно с резким изменением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важных для человека жизненных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обстоятельств и сопровождаемое резко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выраженными двигательными проявлениями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и изменением в функциях внутренних органов. </a:t>
            </a:r>
            <a:r>
              <a:rPr b="0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5733720"/>
            <a:ext cx="822960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8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ричины аффект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Конфликт, противоречие  между сильным влечением, желанием и невозможностью удовлетворить возникшее побуждени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Конфликт, заключающийся в повышенных требованиях к человеку и его неуверенности в собственных силах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оследствия аффект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Меняется внимание и восприяти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Человек теряет голов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Заканчивается аффект упадком си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98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98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98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691920"/>
            <a:ext cx="82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Стресс – это эмоциональное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состояние, которое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возникает в ответ на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экстремальное воздействие.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тресс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268000" y="1557360"/>
            <a:ext cx="2303640" cy="1655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43280" y="1557360"/>
            <a:ext cx="2016360" cy="15843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3213000"/>
            <a:ext cx="3168720" cy="2592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эустресс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2720" y="3141720"/>
            <a:ext cx="3166920" cy="2520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дистресс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98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Французский психолог Г.Селье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3 этапа в развитии стресса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Реакция тревоги – фаза мобилизации защитных сил организма, повышающая устойчивость по отношению к конкретному травмирующему воздействию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Этап стабилизации – параметры, выведенные из равновесия в первой фазе, закрепляются на новом уровн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Если стрессовая ситуация продолжается, наступает стадия истощения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98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7:48:51Z</dcterms:created>
  <dc:creator>1</dc:creator>
  <dc:description/>
  <dc:language>en-US</dc:language>
  <cp:lastModifiedBy>1</cp:lastModifiedBy>
  <dcterms:modified xsi:type="dcterms:W3CDTF">2008-10-30T18:28:43Z</dcterms:modified>
  <cp:revision>5</cp:revision>
  <dc:subject/>
  <dc:title>Эмоциональные состояния взрослого и ребёнка. Что стоит за ними?</dc:title>
</cp:coreProperties>
</file>