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8266-C5BB-4362-9168-B4504496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26D-E720-43C3-970F-140C449F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1920-8643-4892-8EA0-2A591674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B729-5D84-44D3-8389-B76870E9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122C-429E-4E61-9282-4BC9EFA7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52B3-0EB5-4F78-BFA9-662A4435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64A9-7C68-46E4-9AD6-EBCD745E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9E08-9234-49E3-B587-BA059136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3851-5123-4FC0-B82F-75D07A00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EA9B-1243-440A-AF67-1865AC62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4DB0-A182-4EB6-B0AC-1E4F6A15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C787-BD66-4AC8-B5C8-BA00012C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E636-B354-48FD-A83B-2616AAC4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8A2A-5D96-4BF2-85D5-3DC993F8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E651-F47A-471E-97A2-4E99E67B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9F1E-7437-4B09-A88F-1F936F7C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15A8-20CE-4E98-B796-756E5018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2C84-29FB-4890-AEDD-178A3AFD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7716-C7AD-4318-96FC-9CA62BCD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9287-7E6F-46F5-8AE6-29943195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D3E9-7DE5-4AA3-8AEF-9FE1C770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93E-C4A3-436A-ADC8-219D5390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42A8-3C6B-4039-92EB-7ABE2DF9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D0CF-672C-4CE8-843B-123DB6C2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CE3B-A287-4588-8468-C35992D02E8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458C-3BEE-436A-89B7-F083F1F0385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48000" y="4076640"/>
            <a:ext cx="3095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Круглый стол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2 класс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ахарчук Н.М.,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учитель МОУ СОШ №7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г. Фурманова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826920" y="404640"/>
            <a:ext cx="80661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 е т с к а я      а  г  р  е  с  с  и  я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0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4" dur="2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8" dur="2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22" dur="2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Значимо и наказание, есл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но следует немедленно за проступко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ъяснено ребёнку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но суровое, но не жестоко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но оценивает действие ребёнка, а не его человеческие качеств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830240" y="1557360"/>
            <a:ext cx="7313760" cy="58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итесь слушать и слышать своего ребён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тарайтесь сделать так, чтобы только вы снимали его эмоциональное напряже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запрещайте детям выражать отрицательные эмо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йте принять и любить его таким , каков он е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виновение, послушание и исполнительность будут там, где они предъявляются разумн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агрессивным проявлениям в поведении ребёнка приводит агрессивность семь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755640" y="620640"/>
            <a:ext cx="7905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 о л о т ы е   п р а в и л а   в о с п и т а н и я</a:t>
            </a:r>
            <a:endParaRPr b="0" lang="en-US" sz="1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рих   Фро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8920" y="21337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еловек обладает способностью любить, и если он не может найти применения своей способности любить, он способен ненавидеть, проявляя агрессию и жестокость. Этим средством он руководству-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ется как бегством от собственной душевной бол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Вопросы для обсуждения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нализ проблемы агрессивност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оль семьи в проявлении детской агрессивност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ощрение, наказание в семь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коны преодоления детской агресси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кспресс – анкетировани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30240" y="301680"/>
            <a:ext cx="7313760" cy="298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Агрессия – это поведение, которое причиняет вред предмету или предметам, человеку или группе людей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3024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Виды     агрессии 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 flipH="1">
            <a:off x="971640" y="1628640"/>
            <a:ext cx="3527280" cy="20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Line 5"/>
          <p:cNvSpPr/>
          <p:nvPr/>
        </p:nvSpPr>
        <p:spPr>
          <a:xfrm>
            <a:off x="4500720" y="1628640"/>
            <a:ext cx="360036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507960" y="3990960"/>
            <a:ext cx="38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МЕНТАЛЬН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6156360" y="3933720"/>
            <a:ext cx="38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ЖДЕБН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8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ризнаки, позитивно или негативно влияющие на формирование детской агрессивности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3141360"/>
            <a:ext cx="73134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сполож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еприят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3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Чем характеризуется и как влияет на преодоление агрессивности расположение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31640" y="22050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емья помогает ребёнку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еодолеть трудност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спользует в своём арсенал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мение слушать ребёнк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ключает в общение тепло, доброе слово, ласковый взгляд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еприятие характеризуетс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безразличием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странением от общени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етерпимостью и властностью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раждебностью к факту существования ребёнк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громное значение в воспитании детей имеет поощрение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ловом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зглядом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жестом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ействие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12:55Z</dcterms:created>
  <dc:creator>1</dc:creator>
  <dc:description/>
  <dc:language>en-US</dc:language>
  <cp:lastModifiedBy>Admin</cp:lastModifiedBy>
  <dcterms:modified xsi:type="dcterms:W3CDTF">2009-06-10T18:38:13Z</dcterms:modified>
  <cp:revision>6</cp:revision>
  <dc:subject/>
  <dc:title>Слайд 1</dc:title>
</cp:coreProperties>
</file>